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1C71-D6F0-4702-B7F7-8399C0DC48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6DFB-EA71-4BF8-AA45-29B67E4B4EC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8DBC-E454-4E3A-B3D9-F1C6749E65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1C54-02A0-402F-A6FC-095941CD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7267A-F354-45DB-A5E5-93919148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55BD-36CE-4A2F-9EC7-7007C1F096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58DC-90A9-4439-9BDB-867582D7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827AF-CD70-4DB9-AF6A-776B9C0B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4170-9AEC-4387-BE30-2E9968A4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F16E-0749-496C-AFE2-874FE91E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9067-A0C9-422B-AF23-B791AE44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EFCA-81A8-48DF-847B-76914C91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2687-C6F8-4D36-BB6F-085044FF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9AAE-50D2-4AEB-B7E5-2FB05AF0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1CB9-803A-4020-A9B2-8735AB7064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九节  恶心与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560" y="1214280"/>
            <a:ext cx="8553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消化性溃疡、肝硬化、腹部手术、晕车晕船等相关病史及用药史，女性患者的月经史、婚育史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 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吐后有无采取相应的处理措施及其效果等，包括诊断、治疗的经过、相关的辅助检查结果等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意识状态、营养状态、皮肤弹性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若怀疑消化系统疾病，则应注意腹部的评估，特别是腹式呼吸运动、胃肠型及蠕动波、腹膜刺激征、移动性浊音、肾区叩击痛、肠鸣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其它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注意心率、心音强度有无变化，有无肌力减退、生理反射减弱、病理反射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肝功能、肾功能、酸碱平衡及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钡餐、胃镜、腹部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、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CT 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04560" y="1214280"/>
            <a:ext cx="84819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舒适度减弱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急性胃肠炎导致的频繁呕吐有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体液不足或有体液不足的危险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呕吐引起体液丢失、摄入量不足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营养失调：低于机体需要量 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长期频繁呕吐和食物摄入量不足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窒息 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呕吐物误吸入肺内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恶心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为上腹部不适和紧迫欲吐的感觉，可伴有迷走神经兴奋的症状，如皮肤苍白、出汗、流涎、血压降低及心动过缓等，常为呕吐的先兆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通过胃的强烈收缩迫使胃或部分小肠的内容物经食管、口腔而排出体外的现象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8" name="组合 47"/>
          <p:cNvGrpSpPr/>
          <p:nvPr/>
        </p:nvGrpSpPr>
        <p:grpSpPr>
          <a:xfrm>
            <a:off x="571680" y="1714680"/>
            <a:ext cx="7929360" cy="3803400"/>
            <a:chOff x="571680" y="1714680"/>
            <a:chExt cx="7929360" cy="3803400"/>
          </a:xfrm>
        </p:grpSpPr>
        <p:grpSp>
          <p:nvGrpSpPr>
            <p:cNvPr id="119" name="组合 41"/>
            <p:cNvGrpSpPr/>
            <p:nvPr/>
          </p:nvGrpSpPr>
          <p:grpSpPr>
            <a:xfrm>
              <a:off x="571680" y="1714680"/>
              <a:ext cx="7929360" cy="3803400"/>
              <a:chOff x="571680" y="1714680"/>
              <a:chExt cx="7929360" cy="380340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2786040" y="2428920"/>
                <a:ext cx="2214360" cy="356760"/>
              </a:xfrm>
              <a:prstGeom prst="rect">
                <a:avLst/>
              </a:prstGeom>
              <a:noFill/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99"/>
                    </a:solidFill>
                    <a:latin typeface="Arial"/>
                    <a:ea typeface="华文新魏"/>
                  </a:rPr>
                  <a:t>血液的化学性刺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3071880" y="4214520"/>
                <a:ext cx="164304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神经反射中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22" name="AutoShape 19"/>
              <p:cNvCxnSpPr/>
              <p:nvPr/>
            </p:nvCxnSpPr>
            <p:spPr>
              <a:xfrm flipH="1">
                <a:off x="3857400" y="4643280"/>
                <a:ext cx="2160" cy="500400"/>
              </a:xfrm>
              <a:prstGeom prst="straightConnector1">
                <a:avLst/>
              </a:prstGeom>
              <a:ln w="2844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123" name="Rectangle 8"/>
              <p:cNvSpPr/>
              <p:nvPr/>
            </p:nvSpPr>
            <p:spPr>
              <a:xfrm>
                <a:off x="3286080" y="514332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呕吐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4" name="线形标注 2 21"/>
              <p:cNvSpPr/>
              <p:nvPr/>
            </p:nvSpPr>
            <p:spPr>
              <a:xfrm>
                <a:off x="6143760" y="1714680"/>
                <a:ext cx="2357280" cy="785520"/>
              </a:xfrm>
              <a:prstGeom prst="borderCallout2">
                <a:avLst>
                  <a:gd name="adj1" fmla="val 18750"/>
                  <a:gd name="adj2" fmla="val -8333"/>
                  <a:gd name="adj3" fmla="val 18518"/>
                  <a:gd name="adj4" fmla="val -16666"/>
                  <a:gd name="adj5" fmla="val 113425"/>
                  <a:gd name="adj6" fmla="val -46296"/>
                </a:avLst>
              </a:prstGeom>
              <a:solidFill>
                <a:srgbClr val="ffffff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如外源的化学性物质、药物、内生代谢产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25" name="AutoShape 19"/>
              <p:cNvCxnSpPr/>
              <p:nvPr/>
            </p:nvCxnSpPr>
            <p:spPr>
              <a:xfrm flipH="1">
                <a:off x="3856680" y="2786760"/>
                <a:ext cx="2160" cy="1429200"/>
              </a:xfrm>
              <a:prstGeom prst="straightConnector1">
                <a:avLst/>
              </a:prstGeom>
              <a:ln w="2844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126" name="Rectangle 8"/>
              <p:cNvSpPr/>
              <p:nvPr/>
            </p:nvSpPr>
            <p:spPr>
              <a:xfrm>
                <a:off x="5357880" y="2714400"/>
                <a:ext cx="1214280" cy="99972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迷走神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内耳前庭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大脑皮质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7" name="组合 40"/>
              <p:cNvGrpSpPr/>
              <p:nvPr/>
            </p:nvGrpSpPr>
            <p:grpSpPr>
              <a:xfrm>
                <a:off x="571680" y="3500280"/>
                <a:ext cx="7000920" cy="1089000"/>
                <a:chOff x="571680" y="3500280"/>
                <a:chExt cx="7000920" cy="1089000"/>
              </a:xfrm>
            </p:grpSpPr>
            <p:sp>
              <p:nvSpPr>
                <p:cNvPr id="128" name="Rectangle 6"/>
                <p:cNvSpPr/>
                <p:nvPr/>
              </p:nvSpPr>
              <p:spPr>
                <a:xfrm>
                  <a:off x="571680" y="4214520"/>
                  <a:ext cx="22143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化学感受器触发带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9" name="TextBox 30"/>
                <p:cNvSpPr/>
                <p:nvPr/>
              </p:nvSpPr>
              <p:spPr>
                <a:xfrm>
                  <a:off x="2786040" y="4214520"/>
                  <a:ext cx="285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46ca6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30" name="AutoShape 19"/>
                <p:cNvCxnSpPr/>
                <p:nvPr/>
              </p:nvCxnSpPr>
              <p:spPr>
                <a:xfrm>
                  <a:off x="4786200" y="4427280"/>
                  <a:ext cx="570600" cy="216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  <p:sp>
              <p:nvSpPr>
                <p:cNvPr id="131" name="Rectangle 8"/>
                <p:cNvSpPr/>
                <p:nvPr/>
              </p:nvSpPr>
              <p:spPr>
                <a:xfrm>
                  <a:off x="5429520" y="4214520"/>
                  <a:ext cx="214308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呕吐中枢（延髓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2" name="上弧形箭头 35"/>
                <p:cNvSpPr/>
                <p:nvPr/>
              </p:nvSpPr>
              <p:spPr>
                <a:xfrm>
                  <a:off x="2143080" y="3857400"/>
                  <a:ext cx="1285920" cy="285480"/>
                </a:xfrm>
                <a:custGeom>
                  <a:avLst/>
                  <a:gdLst>
                    <a:gd name="textAreaLeft" fmla="*/ 294480 w 1285920"/>
                    <a:gd name="textAreaRight" fmla="*/ 955440 w 1285920"/>
                    <a:gd name="textAreaTop" fmla="*/ 38160 h 285480"/>
                    <a:gd name="textAreaBottom" fmla="*/ 247320 h 285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9900" hR="21600" stAng="10800000" swAng="5400000"/>
                      <a:lnTo>
                        <a:pt x="11100" y="0"/>
                      </a:lnTo>
                      <a:arcTo wR="9900" hR="21600" stAng="-5400000" swAng="3636334"/>
                      <a:lnTo>
                        <a:pt x="21286" y="16200"/>
                      </a:lnTo>
                      <a:lnTo>
                        <a:pt x="20400" y="21600"/>
                      </a:lnTo>
                      <a:lnTo>
                        <a:pt x="18886" y="16200"/>
                      </a:lnTo>
                      <a:lnTo>
                        <a:pt x="19486" y="16200"/>
                      </a:lnTo>
                      <a:arcTo wR="9900" hR="21600" stAng="-1763666" swAng="-3540690"/>
                      <a:lnTo>
                        <a:pt x="10500" y="40"/>
                      </a:lnTo>
                      <a:arcTo wR="9900" hR="21600" stAng="-5495644" swAng="-5304356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9900" hR="21600" stAng="10800000" swAng="5400000"/>
                      <a:lnTo>
                        <a:pt x="9900" y="0"/>
                      </a:lnTo>
                      <a:arcTo wR="9900" hR="21600" stAng="-5400000" swAng="95644"/>
                      <a:lnTo>
                        <a:pt x="10500" y="40"/>
                      </a:lnTo>
                      <a:arcTo wR="9900" hR="21600" stAng="-5495644" swAng="-5304356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6492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3" name="TextBox 36"/>
                <p:cNvSpPr/>
                <p:nvPr/>
              </p:nvSpPr>
              <p:spPr>
                <a:xfrm>
                  <a:off x="2428920" y="3500280"/>
                  <a:ext cx="928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刺激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34" name="AutoShape 19"/>
                <p:cNvCxnSpPr/>
                <p:nvPr/>
              </p:nvCxnSpPr>
              <p:spPr>
                <a:xfrm flipH="1">
                  <a:off x="4785840" y="3714120"/>
                  <a:ext cx="500760" cy="50076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135" name="TextBox 45"/>
            <p:cNvSpPr/>
            <p:nvPr/>
          </p:nvSpPr>
          <p:spPr>
            <a:xfrm rot="2668800">
              <a:off x="4786200" y="370188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传入冲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Box 46"/>
            <p:cNvSpPr/>
            <p:nvPr/>
          </p:nvSpPr>
          <p:spPr>
            <a:xfrm>
              <a:off x="3500640" y="3071880"/>
              <a:ext cx="71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传入冲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过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分为恶心、干呕和呕吐 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3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个阶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但有时可无恶心或干呕的先兆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2" descr="C:\Documents and Settings\Administrator\Application Data\360se6\Application\User Data\temp\u=4231522676,1839925651&amp;fm=21&amp;gp=0.jpg"/>
          <p:cNvPicPr/>
          <p:nvPr/>
        </p:nvPicPr>
        <p:blipFill>
          <a:blip r:embed="rId1"/>
          <a:stretch/>
        </p:blipFill>
        <p:spPr>
          <a:xfrm>
            <a:off x="493560" y="3419640"/>
            <a:ext cx="2005200" cy="349380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25"/>
          <p:cNvGrpSpPr/>
          <p:nvPr/>
        </p:nvGrpSpPr>
        <p:grpSpPr>
          <a:xfrm>
            <a:off x="1585800" y="3456000"/>
            <a:ext cx="3571920" cy="2633040"/>
            <a:chOff x="1585800" y="3456000"/>
            <a:chExt cx="3571920" cy="2633040"/>
          </a:xfrm>
        </p:grpSpPr>
        <p:sp>
          <p:nvSpPr>
            <p:cNvPr id="142" name="Rectangle 6"/>
            <p:cNvSpPr/>
            <p:nvPr/>
          </p:nvSpPr>
          <p:spPr>
            <a:xfrm>
              <a:off x="2943000" y="3456000"/>
              <a:ext cx="1714680" cy="6429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胃窦部收缩致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幽门关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3157560" y="4599000"/>
              <a:ext cx="128592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胃逆蠕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4" name="AutoShape 19"/>
            <p:cNvCxnSpPr>
              <a:endCxn id="143" idx="0"/>
            </p:cNvCxnSpPr>
            <p:nvPr/>
          </p:nvCxnSpPr>
          <p:spPr>
            <a:xfrm flipH="1">
              <a:off x="3800160" y="4098600"/>
              <a:ext cx="2160" cy="5007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5" name="Rectangle 8"/>
            <p:cNvSpPr/>
            <p:nvPr/>
          </p:nvSpPr>
          <p:spPr>
            <a:xfrm>
              <a:off x="3157560" y="5528160"/>
              <a:ext cx="128592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贲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6" name="AutoShape 19"/>
            <p:cNvCxnSpPr/>
            <p:nvPr/>
          </p:nvCxnSpPr>
          <p:spPr>
            <a:xfrm flipH="1">
              <a:off x="3800160" y="5027400"/>
              <a:ext cx="2160" cy="5007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7" name="TextBox 16"/>
            <p:cNvSpPr/>
            <p:nvPr/>
          </p:nvSpPr>
          <p:spPr>
            <a:xfrm>
              <a:off x="1585800" y="5456520"/>
              <a:ext cx="10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呕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8" name="AutoShape 19"/>
            <p:cNvCxnSpPr/>
            <p:nvPr/>
          </p:nvCxnSpPr>
          <p:spPr>
            <a:xfrm flipH="1" flipV="1">
              <a:off x="2371320" y="5742000"/>
              <a:ext cx="71496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9" name="TextBox 20"/>
            <p:cNvSpPr/>
            <p:nvPr/>
          </p:nvSpPr>
          <p:spPr>
            <a:xfrm>
              <a:off x="2514240" y="5385240"/>
              <a:ext cx="214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开放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0" name="AutoShape 19"/>
            <p:cNvCxnSpPr/>
            <p:nvPr/>
          </p:nvCxnSpPr>
          <p:spPr>
            <a:xfrm flipV="1">
              <a:off x="4514760" y="5742000"/>
              <a:ext cx="64332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51" name="TextBox 23"/>
            <p:cNvSpPr/>
            <p:nvPr/>
          </p:nvSpPr>
          <p:spPr>
            <a:xfrm>
              <a:off x="4586400" y="5385240"/>
              <a:ext cx="35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未开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TextBox 24"/>
          <p:cNvSpPr/>
          <p:nvPr/>
        </p:nvSpPr>
        <p:spPr>
          <a:xfrm>
            <a:off x="5157720" y="5456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恶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3" name="圆角矩形 1"/>
          <p:cNvGrpSpPr/>
          <p:nvPr/>
        </p:nvGrpSpPr>
        <p:grpSpPr>
          <a:xfrm>
            <a:off x="5499000" y="3492360"/>
            <a:ext cx="3071880" cy="1506600"/>
            <a:chOff x="5499000" y="3492360"/>
            <a:chExt cx="3071880" cy="1506600"/>
          </a:xfrm>
        </p:grpSpPr>
        <p:pic>
          <p:nvPicPr>
            <p:cNvPr id="154" name="圆角矩形 1" descr=""/>
            <p:cNvPicPr/>
            <p:nvPr/>
          </p:nvPicPr>
          <p:blipFill>
            <a:blip r:embed="rId2"/>
            <a:stretch/>
          </p:blipFill>
          <p:spPr>
            <a:xfrm>
              <a:off x="5499000" y="3492360"/>
              <a:ext cx="30718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645160" y="3591000"/>
              <a:ext cx="28065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Verdana"/>
                  <a:ea typeface="华文新魏"/>
                </a:rPr>
                <a:t>恶心与呕吐的区别在于呕吐中枢接受的冲动轻度不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反射性呕吐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来自内脏末梢神经的冲动            呕吐中枢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咽部受到刺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胃、十二指肠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肠道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肝胆胰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膜及肠系膜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疾病：如急性心肌梗死早期、心力衰竭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9" name="AutoShape 19"/>
          <p:cNvCxnSpPr/>
          <p:nvPr/>
        </p:nvCxnSpPr>
        <p:spPr>
          <a:xfrm>
            <a:off x="5214600" y="2499840"/>
            <a:ext cx="185796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sp>
        <p:nvSpPr>
          <p:cNvPr id="160" name="TextBox 7"/>
          <p:cNvSpPr/>
          <p:nvPr/>
        </p:nvSpPr>
        <p:spPr>
          <a:xfrm>
            <a:off x="-1071720" y="1071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5429160" y="2143080"/>
            <a:ext cx="12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自主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传入纤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中枢性呕吐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来自中枢神经系统或化学感受器的冲动  呕吐中枢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系统疾病：颅内感染、脑血管疾病、颅脑损伤、癫痫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全身性疾病：尿毒症、肝昏迷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：某些抗生素、抗肿瘤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毒：乙醇、重金属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65" name="AutoShape 19"/>
          <p:cNvCxnSpPr/>
          <p:nvPr/>
        </p:nvCxnSpPr>
        <p:spPr>
          <a:xfrm>
            <a:off x="7215120" y="2499840"/>
            <a:ext cx="21528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前庭障碍性呕吐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常见疾病有晕动病、梅尼埃病、迷路炎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凡呕吐伴有听力障碍、眩晕等耳科症状者，需考虑前庭障碍性呕吐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2" descr="C:\Documents and Settings\Administrator\Application Data\360se6\Application\User Data\temp\u=3631593113,1277869079&amp;fm=21&amp;gp=0.jpg"/>
          <p:cNvPicPr/>
          <p:nvPr/>
        </p:nvPicPr>
        <p:blipFill>
          <a:blip r:embed="rId1"/>
          <a:stretch/>
        </p:blipFill>
        <p:spPr>
          <a:xfrm>
            <a:off x="5430960" y="3859200"/>
            <a:ext cx="2377800" cy="1792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Administrator\Application Data\360se6\Application\User Data\temp\u=3624753639,3498494534&amp;fm=21&amp;gp=0.jpg"/>
          <p:cNvPicPr/>
          <p:nvPr/>
        </p:nvPicPr>
        <p:blipFill>
          <a:blip r:embed="rId2"/>
          <a:stretch/>
        </p:blipFill>
        <p:spPr>
          <a:xfrm>
            <a:off x="1359000" y="3786120"/>
            <a:ext cx="28350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包括起病的急缓，有无诱因，呕吐的时间，呕吐物的特征及呕吐物性状、气味、量，是否有胆汁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痛、腹泻  急性胃肠炎或细菌性食物中毒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右上腹痛及发热、寒战或黄疸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  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胆囊炎或胆石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头痛及喷射性呕吐  颅内高压症或青光眼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眩晕、眼球震颤  前庭器官疾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74" name="AutoShape 19"/>
          <p:cNvCxnSpPr/>
          <p:nvPr/>
        </p:nvCxnSpPr>
        <p:spPr>
          <a:xfrm>
            <a:off x="5928840" y="4357800"/>
            <a:ext cx="35820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5" name="AutoShape 19"/>
          <p:cNvCxnSpPr/>
          <p:nvPr/>
        </p:nvCxnSpPr>
        <p:spPr>
          <a:xfrm>
            <a:off x="3214800" y="39290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6" name="AutoShape 19"/>
          <p:cNvCxnSpPr/>
          <p:nvPr/>
        </p:nvCxnSpPr>
        <p:spPr>
          <a:xfrm>
            <a:off x="4214880" y="48578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7" name="AutoShape 19"/>
          <p:cNvCxnSpPr/>
          <p:nvPr/>
        </p:nvCxnSpPr>
        <p:spPr>
          <a:xfrm>
            <a:off x="3857760" y="535788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214280"/>
            <a:ext cx="82677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患者的影响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大量水和电解质的丢失   脱水、低血氯、低血钾、代谢性碱中毒等水、电解质及酸碱平衡紊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吐物中的酸性物质   牙齿造成腐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营养不良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婴幼儿、可老年人及有意识障碍者   误吸而致窒息或肺部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81" name="AutoShape 19"/>
          <p:cNvCxnSpPr/>
          <p:nvPr/>
        </p:nvCxnSpPr>
        <p:spPr>
          <a:xfrm>
            <a:off x="4857840" y="25718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82" name="AutoShape 19"/>
          <p:cNvCxnSpPr/>
          <p:nvPr/>
        </p:nvCxnSpPr>
        <p:spPr>
          <a:xfrm>
            <a:off x="4572000" y="342900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83" name="AutoShape 19"/>
          <p:cNvCxnSpPr/>
          <p:nvPr/>
        </p:nvCxnSpPr>
        <p:spPr>
          <a:xfrm>
            <a:off x="6500880" y="435780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3:15Z</dcterms:modified>
  <cp:revision>17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